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E32-5479-45F5-982B-F0076100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705-2880-4039-B237-C4F7098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5D5-8113-4D5D-BE97-AF5E33BC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7DE-51A8-4E6E-9601-8E7AB7AD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A99-7753-44CB-AC4F-A242367B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674-B1DB-484C-8F0C-317BC63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B32-6AC8-42DC-853E-2CE59B4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98E-96AA-4B19-A726-E335FB0A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1DD-F91A-4136-982F-BB20B3D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C5B-636F-45D5-90B8-B1915F6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405-6B3F-4090-85D1-E298275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DC8-4AE2-4FAD-9234-8A56043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972-4241-45F5-A058-C170DF77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841800">
            <a:off x="4648320" y="4038480"/>
            <a:ext cx="3376440" cy="223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16400">
            <a:off x="685800" y="1219320"/>
            <a:ext cx="80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310200">
            <a:off x="304920" y="4190760"/>
            <a:ext cx="2438280" cy="208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12400">
            <a:off x="3276360" y="3276720"/>
            <a:ext cx="13716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mi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 rot="1225800">
            <a:off x="3352320" y="4800240"/>
            <a:ext cx="57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20904600">
            <a:off x="1980720" y="1066320"/>
            <a:ext cx="2971800" cy="183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81760" y="0"/>
            <a:ext cx="3162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3:18:19Z</dcterms:created>
  <dc:creator> </dc:creator>
  <dc:description/>
  <dc:language>en-US</dc:language>
  <cp:lastModifiedBy> </cp:lastModifiedBy>
  <dcterms:modified xsi:type="dcterms:W3CDTF">2009-12-10T23:18:50Z</dcterms:modified>
  <cp:revision>1</cp:revision>
  <dc:subject/>
  <dc:title>Slide 1</dc:title>
</cp:coreProperties>
</file>